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588-AD26-4EE7-91EF-761F8812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CB5-4109-41A6-9BC5-090514DE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1FD-71E6-4719-8DA1-AAA160EF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B5B-5FAF-4C86-B405-AA5EBE0D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ACD-C2CC-40B4-AA71-79721385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4293-3264-4293-8A76-F01A84CC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AB9-1935-4F4D-A632-87C54343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BE03-FE53-4DBC-BE41-003A10F6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F16-5F83-4C60-8799-A703E819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CFD-0749-4694-A56C-2889FA94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15BF-DEC2-41D9-A09E-6FC3CA44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69D0-9469-43F6-8BC9-6724CAE4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E94F-8E64-4C99-960B-7884C9691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BLEAU DES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61722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6172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6172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486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54864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800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4800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48006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41148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114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1148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34290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34290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34290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2743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2743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27432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2057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057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20574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om de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erson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6858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685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rescri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cid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6858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ctions à entreprend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1371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1371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13716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6858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État des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ctu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13716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34290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7432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20574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54864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8006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41148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61722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50:09Z</dcterms:modified>
  <cp:revision>70</cp:revision>
  <dc:subject/>
  <dc:title>Contrôle interne des risques</dc:title>
</cp:coreProperties>
</file>